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ralarmoff.wav" ContentType="audio/x-wav"/>
  <Override PartName="/ppt/media/CHIMES.WAV" ContentType="audio/x-wav"/>
  <Override PartName="/ppt/media/highchime.wav" ContentType="audio/x-wav"/>
  <Override PartName="/ppt/media/explode.wav" ContentType="audio/x-wav"/>
  <Override PartName="/ppt/media/bserie06.wav" ContentType="audio/x-wav"/>
  <Override PartName="/ppt/media/zipup2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924-2EDB-498B-9A19-3466B51B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802-405A-487A-B9C2-2EEECACE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F6E-4442-4C1A-AE19-D3EE16FB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31C-B455-4921-8D0B-1017E3E1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7BA-EC29-4A4A-959E-D8D1345B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01A-31A7-43A1-88F7-78C1333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007-8476-4A69-BBF6-C2AB503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E2D-D3C3-401A-B572-67891F2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6BC-0074-41C7-8300-2F13F7E9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37E-07B8-4C16-A576-C40D014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D6D-04F3-4F1E-AD75-59AB69C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BC2-65B6-48D2-91C1-A44EDA2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132F-AB50-498B-BE94-56493C635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0880" y="1447560"/>
            <a:ext cx="3048120" cy="2867760"/>
            <a:chOff x="380880" y="1447560"/>
            <a:chExt cx="3048120" cy="2867760"/>
          </a:xfrm>
        </p:grpSpPr>
        <p:sp>
          <p:nvSpPr>
            <p:cNvPr id="44" name=""/>
            <p:cNvSpPr/>
            <p:nvPr/>
          </p:nvSpPr>
          <p:spPr>
            <a:xfrm>
              <a:off x="380880" y="37339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14400" y="1447560"/>
              <a:ext cx="1828800" cy="2210040"/>
              <a:chOff x="914400" y="1447560"/>
              <a:chExt cx="1828800" cy="2210040"/>
            </a:xfrm>
          </p:grpSpPr>
          <p:sp>
            <p:nvSpPr>
              <p:cNvPr id="46" name=""/>
              <p:cNvSpPr/>
              <p:nvPr/>
            </p:nvSpPr>
            <p:spPr>
              <a:xfrm>
                <a:off x="2286000" y="14479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14400" y="30481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14400" y="14479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10800000">
                <a:off x="914400" y="14475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71600" y="14479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14400" y="17524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71600" y="20574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276720" y="2133720"/>
            <a:ext cx="2438280" cy="3248640"/>
            <a:chOff x="3276720" y="2133720"/>
            <a:chExt cx="2438280" cy="3248640"/>
          </a:xfrm>
        </p:grpSpPr>
        <p:sp>
          <p:nvSpPr>
            <p:cNvPr id="54" name=""/>
            <p:cNvSpPr/>
            <p:nvPr/>
          </p:nvSpPr>
          <p:spPr>
            <a:xfrm>
              <a:off x="3429000" y="4038840"/>
              <a:ext cx="228600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57128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828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6200" y="2133720"/>
              <a:ext cx="1371600" cy="2667240"/>
            </a:xfrm>
            <a:prstGeom prst="triangle">
              <a:avLst>
                <a:gd name="adj" fmla="val 50000"/>
              </a:avLst>
            </a:pr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6720" y="480096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yrami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5800" y="4419720"/>
            <a:ext cx="2362320" cy="2440080"/>
            <a:chOff x="685800" y="4419720"/>
            <a:chExt cx="2362320" cy="2440080"/>
          </a:xfrm>
        </p:grpSpPr>
        <p:sp>
          <p:nvSpPr>
            <p:cNvPr id="62" name=""/>
            <p:cNvSpPr/>
            <p:nvPr/>
          </p:nvSpPr>
          <p:spPr>
            <a:xfrm>
              <a:off x="838080" y="4419720"/>
              <a:ext cx="2133720" cy="1752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ylin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248520" y="1600200"/>
            <a:ext cx="2438280" cy="2410200"/>
            <a:chOff x="6248520" y="1600200"/>
            <a:chExt cx="2438280" cy="2410200"/>
          </a:xfrm>
        </p:grpSpPr>
        <p:sp>
          <p:nvSpPr>
            <p:cNvPr id="65" name=""/>
            <p:cNvSpPr/>
            <p:nvPr/>
          </p:nvSpPr>
          <p:spPr>
            <a:xfrm>
              <a:off x="6248520" y="1600200"/>
              <a:ext cx="2438280" cy="160020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8520" y="3048120"/>
              <a:ext cx="24382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4320" y="342900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67280" y="4343400"/>
            <a:ext cx="2362320" cy="2516400"/>
            <a:chOff x="5867280" y="4343400"/>
            <a:chExt cx="2362320" cy="2516400"/>
          </a:xfrm>
        </p:grpSpPr>
        <p:sp>
          <p:nvSpPr>
            <p:cNvPr id="69" name=""/>
            <p:cNvSpPr/>
            <p:nvPr/>
          </p:nvSpPr>
          <p:spPr>
            <a:xfrm>
              <a:off x="6095880" y="4343400"/>
              <a:ext cx="205740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5880" y="5181480"/>
              <a:ext cx="205740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 and name the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2209680"/>
            <a:ext cx="3124080" cy="1371600"/>
            <a:chOff x="228600" y="2209680"/>
            <a:chExt cx="3124080" cy="1371600"/>
          </a:xfrm>
        </p:grpSpPr>
        <p:sp>
          <p:nvSpPr>
            <p:cNvPr id="76" name=""/>
            <p:cNvSpPr/>
            <p:nvPr/>
          </p:nvSpPr>
          <p:spPr>
            <a:xfrm>
              <a:off x="533520" y="2209680"/>
              <a:ext cx="2361960" cy="1371600"/>
            </a:xfrm>
            <a:custGeom>
              <a:avLst/>
              <a:gdLst/>
              <a:ahLst/>
              <a:rect l="l" t="t" r="r" b="b"/>
              <a:pathLst>
                <a:path w="1488" h="864">
                  <a:moveTo>
                    <a:pt x="288" y="144"/>
                  </a:moveTo>
                  <a:lnTo>
                    <a:pt x="1488" y="0"/>
                  </a:lnTo>
                  <a:lnTo>
                    <a:pt x="1200" y="720"/>
                  </a:lnTo>
                  <a:lnTo>
                    <a:pt x="0" y="864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24382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2096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28600" y="2209680"/>
              <a:ext cx="3124080" cy="1371600"/>
              <a:chOff x="228600" y="2209680"/>
              <a:chExt cx="3124080" cy="1371600"/>
            </a:xfrm>
          </p:grpSpPr>
          <p:sp>
            <p:nvSpPr>
              <p:cNvPr id="80" name=""/>
              <p:cNvSpPr/>
              <p:nvPr/>
            </p:nvSpPr>
            <p:spPr>
              <a:xfrm>
                <a:off x="990720" y="2209680"/>
                <a:ext cx="2361960" cy="1371600"/>
              </a:xfrm>
              <a:custGeom>
                <a:avLst/>
                <a:gdLst/>
                <a:ahLst/>
                <a:rect l="l" t="t" r="r" b="b"/>
                <a:pathLst>
                  <a:path w="1488" h="864">
                    <a:moveTo>
                      <a:pt x="0" y="144"/>
                    </a:moveTo>
                    <a:lnTo>
                      <a:pt x="1200" y="0"/>
                    </a:lnTo>
                    <a:lnTo>
                      <a:pt x="1488" y="720"/>
                    </a:lnTo>
                    <a:lnTo>
                      <a:pt x="288" y="86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8600" y="2286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152280" y="3657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4343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724280" y="2133720"/>
            <a:ext cx="2895840" cy="2514600"/>
            <a:chOff x="4724280" y="2133720"/>
            <a:chExt cx="2895840" cy="2514600"/>
          </a:xfrm>
        </p:grpSpPr>
        <p:sp>
          <p:nvSpPr>
            <p:cNvPr id="85" name=""/>
            <p:cNvSpPr/>
            <p:nvPr/>
          </p:nvSpPr>
          <p:spPr>
            <a:xfrm>
              <a:off x="4724280" y="3809880"/>
              <a:ext cx="2895840" cy="838440"/>
            </a:xfrm>
            <a:prstGeom prst="hexagon">
              <a:avLst>
                <a:gd name="adj" fmla="val 86346"/>
                <a:gd name="vf" fmla="val 11547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6400" y="2133720"/>
              <a:ext cx="1371600" cy="1676160"/>
            </a:xfrm>
            <a:custGeom>
              <a:avLst/>
              <a:gdLst/>
              <a:ahLst/>
              <a:rect l="l" t="t" r="r" b="b"/>
              <a:pathLst>
                <a:path w="864" h="1056">
                  <a:moveTo>
                    <a:pt x="0" y="1056"/>
                  </a:moveTo>
                  <a:lnTo>
                    <a:pt x="864" y="1056"/>
                  </a:lnTo>
                  <a:lnTo>
                    <a:pt x="432" y="0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428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17220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428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17220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286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572000" y="4648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257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figure drawn from each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2057400"/>
            <a:ext cx="3429000" cy="3429000"/>
            <a:chOff x="457200" y="2057400"/>
            <a:chExt cx="3429000" cy="342900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2057400"/>
              <a:ext cx="3429000" cy="3429000"/>
              <a:chOff x="457200" y="2057400"/>
              <a:chExt cx="3429000" cy="3429000"/>
            </a:xfrm>
          </p:grpSpPr>
          <p:sp>
            <p:nvSpPr>
              <p:cNvPr id="99" name=""/>
              <p:cNvSpPr/>
              <p:nvPr/>
            </p:nvSpPr>
            <p:spPr>
              <a:xfrm>
                <a:off x="1447920" y="3048120"/>
                <a:ext cx="1447560" cy="1447560"/>
              </a:xfrm>
              <a:prstGeom prst="octagon">
                <a:avLst>
                  <a:gd name="adj" fmla="val 2928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28800" y="20574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700000">
                <a:off x="2705400" y="24001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3085920" y="32382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8100000">
                <a:off x="2742480" y="41148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0800000">
                <a:off x="1904760" y="449568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3500000">
                <a:off x="1028160" y="415224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647640" y="331416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8900000">
                <a:off x="990720" y="24379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57200" y="220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2860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419720" y="1981080"/>
            <a:ext cx="4343400" cy="3505320"/>
            <a:chOff x="4419720" y="1981080"/>
            <a:chExt cx="4343400" cy="3505320"/>
          </a:xfrm>
        </p:grpSpPr>
        <p:grpSp>
          <p:nvGrpSpPr>
            <p:cNvPr id="111" name=""/>
            <p:cNvGrpSpPr/>
            <p:nvPr/>
          </p:nvGrpSpPr>
          <p:grpSpPr>
            <a:xfrm>
              <a:off x="4419720" y="1981080"/>
              <a:ext cx="4343400" cy="3505320"/>
              <a:chOff x="4419720" y="1981080"/>
              <a:chExt cx="4343400" cy="3505320"/>
            </a:xfrm>
          </p:grpSpPr>
          <p:sp>
            <p:nvSpPr>
              <p:cNvPr id="112" name=""/>
              <p:cNvSpPr/>
              <p:nvPr/>
            </p:nvSpPr>
            <p:spPr>
              <a:xfrm>
                <a:off x="69343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 rot="10800000">
                <a:off x="44197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34320" y="4800600"/>
                <a:ext cx="1828800" cy="6858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8520" y="3962520"/>
                <a:ext cx="685800" cy="8380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48520" y="1981080"/>
                <a:ext cx="685800" cy="19814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562720" y="2286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2428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714320" y="2398320"/>
            <a:ext cx="2895480" cy="838080"/>
          </a:xfrm>
          <a:prstGeom prst="hexagon">
            <a:avLst>
              <a:gd name="adj" fmla="val 86372"/>
              <a:gd name="vf" fmla="val 115470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218960" y="1979280"/>
            <a:ext cx="1371600" cy="1676520"/>
          </a:xfrm>
          <a:custGeom>
            <a:avLst/>
            <a:gdLst/>
            <a:ahLst/>
            <a:rect l="l" t="t" r="r" b="b"/>
            <a:pathLst>
              <a:path w="864" h="1056">
                <a:moveTo>
                  <a:pt x="0" y="1056"/>
                </a:moveTo>
                <a:lnTo>
                  <a:pt x="864" y="1056"/>
                </a:lnTo>
                <a:lnTo>
                  <a:pt x="432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09400" y="2474640"/>
            <a:ext cx="144792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rot="16200000">
            <a:off x="1407240" y="1027080"/>
            <a:ext cx="144756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00200" y="2285640"/>
            <a:ext cx="144756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6200000">
            <a:off x="1598760" y="83808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57600" y="1654200"/>
            <a:ext cx="126216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91360" y="1660680"/>
            <a:ext cx="126180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/>
          </a:solidFill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9760" y="1654200"/>
            <a:ext cx="2627280" cy="420840"/>
          </a:xfrm>
          <a:custGeom>
            <a:avLst/>
            <a:gdLst/>
            <a:ahLst/>
            <a:rect l="l" t="t" r="r" b="b"/>
            <a:pathLst>
              <a:path w="1655" h="265">
                <a:moveTo>
                  <a:pt x="0" y="0"/>
                </a:moveTo>
                <a:lnTo>
                  <a:pt x="1098" y="0"/>
                </a:lnTo>
                <a:lnTo>
                  <a:pt x="1655" y="265"/>
                </a:lnTo>
                <a:lnTo>
                  <a:pt x="567" y="265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19760" y="2060640"/>
            <a:ext cx="1727280" cy="1001520"/>
          </a:xfrm>
          <a:custGeom>
            <a:avLst/>
            <a:gdLst/>
            <a:ahLst/>
            <a:rect l="l" t="t" r="r" b="b"/>
            <a:pathLst>
              <a:path w="1088" h="631">
                <a:moveTo>
                  <a:pt x="0" y="0"/>
                </a:moveTo>
                <a:lnTo>
                  <a:pt x="1088" y="0"/>
                </a:lnTo>
                <a:lnTo>
                  <a:pt x="1088" y="63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43560" y="1639800"/>
            <a:ext cx="2133360" cy="1074960"/>
          </a:xfrm>
          <a:custGeom>
            <a:avLst/>
            <a:gdLst/>
            <a:ahLst/>
            <a:rect l="l" t="t" r="r" b="b"/>
            <a:pathLst>
              <a:path w="1344" h="677">
                <a:moveTo>
                  <a:pt x="237" y="0"/>
                </a:moveTo>
                <a:lnTo>
                  <a:pt x="1344" y="0"/>
                </a:lnTo>
                <a:lnTo>
                  <a:pt x="1106" y="677"/>
                </a:lnTo>
                <a:lnTo>
                  <a:pt x="0" y="677"/>
                </a:lnTo>
                <a:lnTo>
                  <a:pt x="237" y="0"/>
                </a:lnTo>
                <a:close/>
              </a:path>
            </a:pathLst>
          </a:custGeom>
          <a:solidFill>
            <a:srgbClr val="66ff99">
              <a:alpha val="2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8400" y="3062160"/>
            <a:ext cx="2438640" cy="174600"/>
          </a:xfrm>
          <a:custGeom>
            <a:avLst/>
            <a:gdLst/>
            <a:ahLst/>
            <a:rect l="l" t="t" r="r" b="b"/>
            <a:pathLst>
              <a:path w="1536" h="110">
                <a:moveTo>
                  <a:pt x="0" y="110"/>
                </a:moveTo>
                <a:lnTo>
                  <a:pt x="448" y="0"/>
                </a:lnTo>
                <a:lnTo>
                  <a:pt x="1536" y="0"/>
                </a:lnTo>
                <a:lnTo>
                  <a:pt x="1088" y="101"/>
                </a:lnTo>
                <a:lnTo>
                  <a:pt x="0" y="11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179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76800" y="43988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5920" y="50086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al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30400" y="2727360"/>
            <a:ext cx="1103400" cy="1552680"/>
          </a:xfrm>
          <a:custGeom>
            <a:avLst/>
            <a:gdLst/>
            <a:ahLst/>
            <a:rect l="l" t="t" r="r" b="b"/>
            <a:pathLst>
              <a:path w="676" h="978">
                <a:moveTo>
                  <a:pt x="0" y="969"/>
                </a:moveTo>
                <a:lnTo>
                  <a:pt x="0" y="0"/>
                </a:lnTo>
                <a:lnTo>
                  <a:pt x="676" y="0"/>
                </a:lnTo>
                <a:lnTo>
                  <a:pt x="676" y="978"/>
                </a:lnTo>
                <a:lnTo>
                  <a:pt x="0" y="969"/>
                </a:lnTo>
                <a:close/>
              </a:path>
            </a:pathLst>
          </a:cu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1840" y="2990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25720" y="1442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17800" y="1436760"/>
            <a:ext cx="420480" cy="2830320"/>
          </a:xfrm>
          <a:custGeom>
            <a:avLst/>
            <a:gdLst/>
            <a:ahLst/>
            <a:rect l="l" t="t" r="r" b="b"/>
            <a:pathLst>
              <a:path w="265" h="1783">
                <a:moveTo>
                  <a:pt x="0" y="1783"/>
                </a:moveTo>
                <a:lnTo>
                  <a:pt x="0" y="805"/>
                </a:lnTo>
                <a:lnTo>
                  <a:pt x="265" y="0"/>
                </a:lnTo>
                <a:lnTo>
                  <a:pt x="265" y="978"/>
                </a:lnTo>
                <a:lnTo>
                  <a:pt x="0" y="1783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54120" y="1436760"/>
            <a:ext cx="696960" cy="2830320"/>
          </a:xfrm>
          <a:custGeom>
            <a:avLst/>
            <a:gdLst/>
            <a:ahLst/>
            <a:rect l="l" t="t" r="r" b="b"/>
            <a:pathLst>
              <a:path w="439" h="1783">
                <a:moveTo>
                  <a:pt x="0" y="0"/>
                </a:moveTo>
                <a:lnTo>
                  <a:pt x="430" y="805"/>
                </a:lnTo>
                <a:lnTo>
                  <a:pt x="439" y="1783"/>
                </a:lnTo>
                <a:lnTo>
                  <a:pt x="0" y="960"/>
                </a:lnTo>
                <a:lnTo>
                  <a:pt x="0" y="0"/>
                </a:lnTo>
                <a:close/>
              </a:path>
            </a:pathLst>
          </a:custGeom>
          <a:solidFill>
            <a:srgbClr val="cc99ff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41320" y="5334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uare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6240" y="15526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227016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3000" y="30052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373860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3040" y="374652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374004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06520" y="3736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27200" y="17701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18040" y="1762200"/>
            <a:ext cx="161100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427120" y="175716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4030560" y="176364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4960" y="55371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8160" y="13129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5045040" y="430344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43200" y="270036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48080" y="269388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51520" y="270180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16T23:01:40Z</dcterms:modified>
  <cp:revision>17</cp:revision>
  <dc:subject/>
  <dc:title>No Slide Title</dc:title>
</cp:coreProperties>
</file>